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DEA3-B6D6-4C3C-BBB5-380C815C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EA7-C3BB-442C-B952-BAD3F58C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614-C0F9-46BF-AC54-C7B77C52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DB0-7942-4F04-AC6C-0F5847A4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C767-E0F5-4D7F-AE7B-A67331F4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1C8F-C7AF-4373-8636-EF984F14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B962-2257-49D8-B15B-F4D3A05E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C63C-9CAD-41C1-AF4B-936FCD42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E124-A45C-4E2C-BFBD-0C423A0A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D840-2295-43A7-9EBE-8BD72AD3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F93E-4CE2-4F67-B4D4-FF1B5038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FC0-428B-4AF0-B659-D157718A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2C35-8693-41DA-A62C-FE5C88EB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12A9-ECCB-4AE2-ABF3-120C1216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DF4B-06F2-48AA-BE7B-7394F5D2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1573-8A06-43B6-831A-7CE09419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ACEC-0F44-4C85-9973-980DC3C3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73F6-A145-4D39-B1F3-D6CC676A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28372-879E-4153-B039-8F3DAE80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00529-1684-4A3F-A153-94B6C82B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173CD-9C82-4E10-9281-08686856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2BB16-689E-4E24-98B3-585E0798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9D1D-10B7-4720-97D1-516E51CA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D6155-A649-46EA-94B9-0CAB4648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60662-A6E4-4F08-9C06-9472FDF1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416C0-EF80-417D-A5C0-C1091D47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D1EB5-6BA9-4EAE-A117-D74A1666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8EF0F-CB4C-4DAF-868C-2FDC4105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9D714-1E20-4350-B240-CA388357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47A33-2C1A-4AC3-8BD4-DD7C9D28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166ED-0A5E-4F91-8AF6-C6437F2A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776C7-5EFD-45E0-BB4E-1BC524D5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BC203-D05F-4725-ADD6-2B07D871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A61F-B8B4-4B6F-BF1E-12F7D6B4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5A1B0-08A4-411D-818D-EFC6FD7D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7FBFF-E3AD-4B2A-A3DB-7DDF5DC2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FA02B-D0EA-471B-BB09-5CFA5572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17830-8C35-4225-B4BB-8369A047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A5F26-DB35-4C4C-A059-5E8957A1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709BA-D40A-46B6-9836-0EA97637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E0858-CD9D-464D-8DBE-B503BE62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16349-8195-401A-A69D-0CBECB38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D68DC-60E2-4EB1-9AF9-8D299898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5892C-2874-43DA-9915-EC19269A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3D5-0173-4A5E-AB2B-2896A58E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FC711-116D-4739-AC61-D10CDB02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19F13-B425-41FE-B7FB-96834C80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E359A-93CF-4A46-861E-EDFF8C15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B3850-641F-4486-9457-D2AB4872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89346-B3CB-424F-B466-45C3F216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64B2F-3918-4CFE-8C44-C8DA4C22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10E48-B8BF-4BA5-B53E-B8F344F2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93F7F-1CD7-4D21-B8EA-6A14E159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FCC3D-66F3-4881-A2FC-19149ADA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292C6-631B-4354-B982-1528BAFA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99E-5DD0-42A0-BD0C-6CBA52CF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69B4B-2C52-497B-B912-0AE1125E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7E84E-12F4-4437-BBF4-90A92F2E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C0656-F493-4F6C-88F9-F3BEBD82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D08A0-7E24-423C-8552-2C3F6148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CDDBE-D6AE-41D3-89F3-AAB547A6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87751-7BFD-4139-88B8-607699CE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081E1-ED1E-4BEA-987C-2B81E2BD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F9862-19F3-475C-868D-4836F9F6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8B681-EA7D-43EF-87C6-CC964ECB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5383F-B7F7-4C16-B917-84A555E3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AED-5ED7-4C3A-95CF-44EA0928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FDA56-451F-4A35-B621-45750DA1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0882F-163D-4F96-8A05-46F4D5BB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34CDA-E659-4E61-A571-FCFA7591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36F3A-0A21-450E-A6A1-9EC80FBB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6A657-5B98-48D4-9CF7-75E22267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4954A-BB35-4CD5-8018-60321008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C5B6C-ADEE-4D57-8EB8-B07828DB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8DB28-52E8-4900-BE7C-42CCEE1E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6CAF0-702B-4C1E-830E-164C6A7C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005EC-C758-415F-A2C5-E7DDEB79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99D-8CF7-457A-B635-6D2CAE70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4F824-7014-4F50-B0FD-93954BF3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5F354-5E27-4707-8FB1-BA8E1427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BFB79-7C4F-4663-92AE-6555E710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D7DE5-52D7-476E-B570-F51AB22C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F45D0-3AA3-4D75-88D0-16EF2044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07E-D0CC-42E8-998F-CE257678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5EB1-161F-48F3-8579-CA1DFDBEBD8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D7F9-C2D7-4781-98EA-7A40CEB7CF7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54D9-6D6F-47C0-A64C-DD37E5291FA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AAB2-ACA0-42CF-94F9-D9B021AA087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AB1C-C888-476D-B698-AB91FD9121E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7377-22EF-4DE8-A7B3-B3D16565351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C926-61DA-4899-BC4D-1A7051F13F1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8" descr=""/>
          <p:cNvPicPr/>
          <p:nvPr/>
        </p:nvPicPr>
        <p:blipFill>
          <a:blip r:embed="rId1"/>
          <a:stretch/>
        </p:blipFill>
        <p:spPr>
          <a:xfrm>
            <a:off x="5076720" y="3284640"/>
            <a:ext cx="3568680" cy="2690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2"/>
          <a:stretch/>
        </p:blipFill>
        <p:spPr>
          <a:xfrm>
            <a:off x="755640" y="3357720"/>
            <a:ext cx="3651120" cy="27511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http://img.howtocure.ru/img/744197/klever.jpg"/>
          <p:cNvPicPr/>
          <p:nvPr/>
        </p:nvPicPr>
        <p:blipFill>
          <a:blip r:embed="rId3"/>
          <a:stretch/>
        </p:blipFill>
        <p:spPr>
          <a:xfrm>
            <a:off x="2484360" y="333360"/>
            <a:ext cx="2708280" cy="2708280"/>
          </a:xfrm>
          <a:prstGeom prst="rect">
            <a:avLst/>
          </a:prstGeom>
          <a:ln w="0">
            <a:noFill/>
          </a:ln>
        </p:spPr>
      </p:pic>
      <p:sp>
        <p:nvSpPr>
          <p:cNvPr id="321" name="TextBox 6"/>
          <p:cNvSpPr/>
          <p:nvPr/>
        </p:nvSpPr>
        <p:spPr>
          <a:xfrm>
            <a:off x="5438160" y="2276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7"/>
          <p:cNvSpPr/>
          <p:nvPr/>
        </p:nvSpPr>
        <p:spPr>
          <a:xfrm>
            <a:off x="2700360" y="6308640"/>
            <a:ext cx="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8"/>
          <p:cNvSpPr/>
          <p:nvPr/>
        </p:nvSpPr>
        <p:spPr>
          <a:xfrm>
            <a:off x="6446160" y="62373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1332000" y="620640"/>
            <a:ext cx="6696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то такое вид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чебник стр. 148-149. самостоя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2"/>
          <p:cNvSpPr/>
          <p:nvPr/>
        </p:nvSpPr>
        <p:spPr>
          <a:xfrm>
            <a:off x="627480" y="2060640"/>
            <a:ext cx="809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ения сходны по строению и жизне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половом размножении могут да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одовитое потом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Занимает определенную терри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Имеет приспособления к определен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ловиям сре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"/>
          <p:cNvSpPr/>
          <p:nvPr/>
        </p:nvSpPr>
        <p:spPr>
          <a:xfrm>
            <a:off x="1332000" y="549360"/>
            <a:ext cx="748800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 вариант  - Признаки однодольных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р. 151 -1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  - Признаки двудольных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р. 15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т №119 стр.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https://pp.vk.me/c617126/v617126597/c058/b_Yqskg69-s.jpg"/>
          <p:cNvPicPr/>
          <p:nvPr/>
        </p:nvPicPr>
        <p:blipFill>
          <a:blip r:embed="rId1"/>
          <a:stretch/>
        </p:blipFill>
        <p:spPr>
          <a:xfrm>
            <a:off x="1476360" y="1268280"/>
            <a:ext cx="7224840" cy="47530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2"/>
          <p:cNvSpPr/>
          <p:nvPr/>
        </p:nvSpPr>
        <p:spPr>
          <a:xfrm>
            <a:off x="2346840" y="404640"/>
            <a:ext cx="52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знаки однодольных и двудольных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http://900igr.net/up/datas/133067/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1"/>
          <p:cNvSpPr/>
          <p:nvPr/>
        </p:nvSpPr>
        <p:spPr>
          <a:xfrm>
            <a:off x="2639520" y="40464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т  № 120 стр. 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http://xn--80abmmk8a7c.xn--p1ai/wa-data/public/shop/products/58/65/6558/images/15192/15192.750x0.JPG"/>
          <p:cNvPicPr/>
          <p:nvPr/>
        </p:nvPicPr>
        <p:blipFill>
          <a:blip r:embed="rId1"/>
          <a:stretch/>
        </p:blipFill>
        <p:spPr>
          <a:xfrm>
            <a:off x="250920" y="836640"/>
            <a:ext cx="3143160" cy="30970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3"/>
          <p:cNvSpPr/>
          <p:nvPr/>
        </p:nvSpPr>
        <p:spPr>
          <a:xfrm>
            <a:off x="689400" y="429264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ас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http://www.wildgarden.ru/cereals/i/wheat_02.jpg"/>
          <p:cNvPicPr/>
          <p:nvPr/>
        </p:nvPicPr>
        <p:blipFill>
          <a:blip r:embed="rId2"/>
          <a:stretch/>
        </p:blipFill>
        <p:spPr>
          <a:xfrm>
            <a:off x="3564000" y="1052640"/>
            <a:ext cx="1523880" cy="47433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3357000" y="609300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ше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http://xn------7cdididf2ahc1bkqghgx7a5b4amh8d4jsa.xn--p1ai/assets/img/uvjadajut-listja-orhidei1.jpg"/>
          <p:cNvPicPr/>
          <p:nvPr/>
        </p:nvPicPr>
        <p:blipFill>
          <a:blip r:embed="rId3"/>
          <a:stretch/>
        </p:blipFill>
        <p:spPr>
          <a:xfrm>
            <a:off x="5457960" y="1246320"/>
            <a:ext cx="3327120" cy="2158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http://4.bp.blogspot.com/-55xDxHgcM1A/V2Ys7c8RGWI/AAAAAAAACMI/KJw7V-AGREcRbyOltTMMOhkZoBlGiQvrwCLcB/s1600/01.jpg"/>
          <p:cNvPicPr/>
          <p:nvPr/>
        </p:nvPicPr>
        <p:blipFill>
          <a:blip r:embed="rId4"/>
          <a:stretch/>
        </p:blipFill>
        <p:spPr>
          <a:xfrm>
            <a:off x="6732720" y="3716280"/>
            <a:ext cx="2052360" cy="2737080"/>
          </a:xfrm>
          <a:prstGeom prst="rect">
            <a:avLst/>
          </a:prstGeom>
          <a:ln w="0">
            <a:noFill/>
          </a:ln>
        </p:spPr>
      </p:pic>
      <p:sp>
        <p:nvSpPr>
          <p:cNvPr id="362" name="TextBox 8"/>
          <p:cNvSpPr/>
          <p:nvPr/>
        </p:nvSpPr>
        <p:spPr>
          <a:xfrm>
            <a:off x="5155560" y="4149720"/>
            <a:ext cx="15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рхид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https://upload.wikimedia.org/wikipedia/commons/b/bc/Dracophyllum_traversii_fragment2.jpg"/>
          <p:cNvPicPr/>
          <p:nvPr/>
        </p:nvPicPr>
        <p:blipFill>
          <a:blip r:embed="rId1"/>
          <a:stretch/>
        </p:blipFill>
        <p:spPr>
          <a:xfrm>
            <a:off x="1332000" y="333360"/>
            <a:ext cx="4960800" cy="263376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2"/>
          <p:cNvSpPr/>
          <p:nvPr/>
        </p:nvSpPr>
        <p:spPr>
          <a:xfrm>
            <a:off x="1779840" y="321300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меелист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или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ракофилл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http://xn--80abmmk8a7c.xn--p1ai/wa-data/public/shop/products/09/65/6509/images/15146/15146.670.JPG"/>
          <p:cNvPicPr/>
          <p:nvPr/>
        </p:nvPicPr>
        <p:blipFill>
          <a:blip r:embed="rId2"/>
          <a:stretch/>
        </p:blipFill>
        <p:spPr>
          <a:xfrm>
            <a:off x="5508720" y="3357720"/>
            <a:ext cx="3130560" cy="31255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4"/>
          <p:cNvSpPr/>
          <p:nvPr/>
        </p:nvSpPr>
        <p:spPr>
          <a:xfrm>
            <a:off x="3066480" y="494172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дорож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http://st.stranamam.ru/data/cache/2015jul/12/08/16633687_70526.jpg"/>
          <p:cNvPicPr/>
          <p:nvPr/>
        </p:nvPicPr>
        <p:blipFill>
          <a:blip r:embed="rId1"/>
          <a:stretch/>
        </p:blipFill>
        <p:spPr>
          <a:xfrm>
            <a:off x="826920" y="620640"/>
            <a:ext cx="3191040" cy="2737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http://100trav.com/wp-content/uploads/2013/06/svoiistva-odyvanchikov.jpg"/>
          <p:cNvPicPr/>
          <p:nvPr/>
        </p:nvPicPr>
        <p:blipFill>
          <a:blip r:embed="rId2"/>
          <a:stretch/>
        </p:blipFill>
        <p:spPr>
          <a:xfrm>
            <a:off x="395280" y="3789360"/>
            <a:ext cx="3834000" cy="273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http://dou31.edu.sarkomobr.ru/files/large/3f8d83d14b6b215"/>
          <p:cNvPicPr/>
          <p:nvPr/>
        </p:nvPicPr>
        <p:blipFill>
          <a:blip r:embed="rId3"/>
          <a:stretch/>
        </p:blipFill>
        <p:spPr>
          <a:xfrm>
            <a:off x="5081760" y="620640"/>
            <a:ext cx="3363840" cy="48960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4"/>
          <p:cNvSpPr/>
          <p:nvPr/>
        </p:nvSpPr>
        <p:spPr>
          <a:xfrm>
            <a:off x="2413800" y="3645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6"/>
          <p:cNvSpPr/>
          <p:nvPr/>
        </p:nvSpPr>
        <p:spPr>
          <a:xfrm>
            <a:off x="7022520" y="5732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7"/>
          <p:cNvSpPr/>
          <p:nvPr/>
        </p:nvSpPr>
        <p:spPr>
          <a:xfrm>
            <a:off x="4790520" y="5877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http://www.coollady.ru/pic/0003/069/02.jpg"/>
          <p:cNvPicPr/>
          <p:nvPr/>
        </p:nvPicPr>
        <p:blipFill>
          <a:blip r:embed="rId1"/>
          <a:stretch/>
        </p:blipFill>
        <p:spPr>
          <a:xfrm>
            <a:off x="324000" y="333360"/>
            <a:ext cx="2663640" cy="23749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http://passiflora.by/sites/default/files/imagecache/product_full/tyulpan.png"/>
          <p:cNvPicPr/>
          <p:nvPr/>
        </p:nvPicPr>
        <p:blipFill>
          <a:blip r:embed="rId2"/>
          <a:stretch/>
        </p:blipFill>
        <p:spPr>
          <a:xfrm>
            <a:off x="5148360" y="549360"/>
            <a:ext cx="3301920" cy="46051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http://25.media.tumblr.com/tumblr_lvusx6loak1r39k3oo1_1280.jpg"/>
          <p:cNvPicPr/>
          <p:nvPr/>
        </p:nvPicPr>
        <p:blipFill>
          <a:blip r:embed="rId3"/>
          <a:stretch/>
        </p:blipFill>
        <p:spPr>
          <a:xfrm>
            <a:off x="755640" y="3645000"/>
            <a:ext cx="3670200" cy="2448000"/>
          </a:xfrm>
          <a:prstGeom prst="rect">
            <a:avLst/>
          </a:prstGeom>
          <a:ln w="0">
            <a:noFill/>
          </a:ln>
        </p:spPr>
      </p:pic>
      <p:sp>
        <p:nvSpPr>
          <p:cNvPr id="333" name="TextBox 4"/>
          <p:cNvSpPr/>
          <p:nvPr/>
        </p:nvSpPr>
        <p:spPr>
          <a:xfrm>
            <a:off x="3279240" y="2708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2342520" y="62373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6"/>
          <p:cNvSpPr/>
          <p:nvPr/>
        </p:nvSpPr>
        <p:spPr>
          <a:xfrm>
            <a:off x="6231240" y="5589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Систематика расте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. 2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прос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Подумайте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" descr="http://images.myshared.ru/4/282277/slide_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2054520" y="765000"/>
            <a:ext cx="3360240" cy="4842360"/>
            <a:chOff x="2054520" y="765000"/>
            <a:chExt cx="3360240" cy="4842360"/>
          </a:xfrm>
        </p:grpSpPr>
        <p:pic>
          <p:nvPicPr>
            <p:cNvPr id="341" name="Picture 5" descr=""/>
            <p:cNvPicPr/>
            <p:nvPr/>
          </p:nvPicPr>
          <p:blipFill>
            <a:blip r:embed="rId1"/>
            <a:stretch/>
          </p:blipFill>
          <p:spPr>
            <a:xfrm>
              <a:off x="2147040" y="765000"/>
              <a:ext cx="3267720" cy="4371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342" name="Rectangle 6"/>
            <p:cNvSpPr/>
            <p:nvPr/>
          </p:nvSpPr>
          <p:spPr>
            <a:xfrm>
              <a:off x="2054520" y="5294160"/>
              <a:ext cx="30031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рл  Линней (1707-1778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Box 4"/>
          <p:cNvSpPr/>
          <p:nvPr/>
        </p:nvSpPr>
        <p:spPr>
          <a:xfrm>
            <a:off x="2356560" y="580536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сновоположник сис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http://img.howtocure.ru/img/744197/klever.jpg"/>
          <p:cNvPicPr/>
          <p:nvPr/>
        </p:nvPicPr>
        <p:blipFill>
          <a:blip r:embed="rId1"/>
          <a:stretch/>
        </p:blipFill>
        <p:spPr>
          <a:xfrm>
            <a:off x="324000" y="333360"/>
            <a:ext cx="4032000" cy="40323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http://zerno-nn.ru/upload/iblock/b7d/b7d26188dff75e79f0e9ce5d44f5c50e.jpg"/>
          <p:cNvPicPr/>
          <p:nvPr/>
        </p:nvPicPr>
        <p:blipFill>
          <a:blip r:embed="rId2"/>
          <a:stretch/>
        </p:blipFill>
        <p:spPr>
          <a:xfrm>
            <a:off x="4427640" y="378936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http://samlib.ru/img/s/shishkin_a_g/rktdth/klever4.jpg"/>
          <p:cNvPicPr/>
          <p:nvPr/>
        </p:nvPicPr>
        <p:blipFill>
          <a:blip r:embed="rId3"/>
          <a:stretch/>
        </p:blipFill>
        <p:spPr>
          <a:xfrm>
            <a:off x="5292720" y="692280"/>
            <a:ext cx="3619440" cy="27097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1476360" y="50846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т  №118 стр.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http://images.myshared.ru/4/282277/slide_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2T12:56:27Z</dcterms:created>
  <dc:creator>анна</dc:creator>
  <dc:description/>
  <dc:language>en-US</dc:language>
  <cp:lastModifiedBy>User</cp:lastModifiedBy>
  <dcterms:modified xsi:type="dcterms:W3CDTF">2018-01-27T20:34:23Z</dcterms:modified>
  <cp:revision>17</cp:revision>
  <dc:subject/>
  <dc:title>Слайд 1</dc:title>
</cp:coreProperties>
</file>