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966-7F1D-498D-90D4-CCF04E95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ECB-74CE-42B2-AB76-98B94C0F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D05-6B91-42F4-9EC8-1AD516C1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E2D-BE29-4428-B383-6D58AB43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2DA-9571-4DA9-A993-9F842E7D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30F-8888-49F4-83F3-243CA4E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0E8-F5B8-4F0A-9A9B-4244AA85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645-7B56-4BC7-850D-22A1A654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DAE-93F7-49A5-9030-F0321DD3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2D4-B511-4A85-92C0-0B65A972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E5C-55B9-4A4B-9663-D58285BB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B26-350D-475F-B653-013689C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5BE6-5C99-41BE-8771-9281B2696D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79280" y="215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 верные и неверные утверж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шайники – симбиотические организмы, образованные в  результате союза гриба и одноклеточных водорос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шайники живут очень долго: 50-100лет и бо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ут лишайники очень быстро и их размеры в большинстве случаев могут достигать нескольких 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ло лишайника, как и тело многоклеточных водорослей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еви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форме тела различают накипные, листовые (=листоватые) и кустистые 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шайники называют «пионерами растительности», потому что их можно встретить только в неблагоприятных условиях высокогорья или Крайнего Се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гель, который еще называют «Олений мох», на самом деле является лишай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лишайники ядовиты дл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некоторых лишайников получали краску, а некоторые использовали для приготовления лек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шайники используют как индикаторы загрязнения окружающей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http://www.piluli.ru/images/smacs_images/products/000/435/832/original_bint_nesterilnyj_10_sm_h_5_m_www_piluli_ru_eapt234229.gif"/>
          <p:cNvPicPr/>
          <p:nvPr/>
        </p:nvPicPr>
        <p:blipFill>
          <a:blip r:embed="rId1"/>
          <a:stretch/>
        </p:blipFill>
        <p:spPr>
          <a:xfrm>
            <a:off x="4788000" y="-243000"/>
            <a:ext cx="3273480" cy="3273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go4.imgsmail.ru/imgpreview?key=68de2660c31c210f&amp;mb=imgdb_preview_806"/>
          <p:cNvPicPr/>
          <p:nvPr/>
        </p:nvPicPr>
        <p:blipFill>
          <a:blip r:embed="rId2"/>
          <a:stretch/>
        </p:blipFill>
        <p:spPr>
          <a:xfrm>
            <a:off x="395280" y="4076640"/>
            <a:ext cx="335592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www.nedug.ru/common/data/pub/images/articles/79026/normal.jpg"/>
          <p:cNvPicPr/>
          <p:nvPr/>
        </p:nvPicPr>
        <p:blipFill>
          <a:blip r:embed="rId3"/>
          <a:stretch/>
        </p:blipFill>
        <p:spPr>
          <a:xfrm>
            <a:off x="5076720" y="3357720"/>
            <a:ext cx="3741840" cy="2346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ttp://avflower.com/jpeg/sphagnum_moss_small.jpg"/>
          <p:cNvPicPr/>
          <p:nvPr/>
        </p:nvPicPr>
        <p:blipFill>
          <a:blip r:embed="rId4"/>
          <a:stretch/>
        </p:blipFill>
        <p:spPr>
          <a:xfrm>
            <a:off x="1116000" y="1413000"/>
            <a:ext cx="2935440" cy="230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megasklad.ru/data/photoes/s506006.jpg"/>
          <p:cNvPicPr/>
          <p:nvPr/>
        </p:nvPicPr>
        <p:blipFill>
          <a:blip r:embed="rId5"/>
          <a:stretch/>
        </p:blipFill>
        <p:spPr>
          <a:xfrm>
            <a:off x="1835280" y="404640"/>
            <a:ext cx="24303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D:\документы 1\фото 1\клюква шинда\SDC15649.JPG"/>
          <p:cNvPicPr/>
          <p:nvPr/>
        </p:nvPicPr>
        <p:blipFill>
          <a:blip r:embed="rId1"/>
          <a:stretch/>
        </p:blipFill>
        <p:spPr>
          <a:xfrm>
            <a:off x="5148360" y="115920"/>
            <a:ext cx="3671640" cy="333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D:\документы 1\фото 1\клюква шинда\SDC15648.JPG"/>
          <p:cNvPicPr/>
          <p:nvPr/>
        </p:nvPicPr>
        <p:blipFill>
          <a:blip r:embed="rId2"/>
          <a:stretch/>
        </p:blipFill>
        <p:spPr>
          <a:xfrm>
            <a:off x="4788000" y="3573360"/>
            <a:ext cx="4116240" cy="308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sayga12.ru/wp-content/uploads/2015/02/boloto000015e.jpg"/>
          <p:cNvPicPr/>
          <p:nvPr/>
        </p:nvPicPr>
        <p:blipFill>
          <a:blip r:embed="rId3"/>
          <a:stretch/>
        </p:blipFill>
        <p:spPr>
          <a:xfrm>
            <a:off x="250920" y="3284640"/>
            <a:ext cx="4429080" cy="332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http://1.bp.blogspot.com/-_L2wzRBQvv8/ThIf1SVNKcI/AAAAAAAAJCs/IlGXsMBe8I0/s1600/sfignum2.jpg"/>
          <p:cNvPicPr/>
          <p:nvPr/>
        </p:nvPicPr>
        <p:blipFill>
          <a:blip r:embed="rId4"/>
          <a:stretch/>
        </p:blipFill>
        <p:spPr>
          <a:xfrm>
            <a:off x="324000" y="115920"/>
            <a:ext cx="3995640" cy="3141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916360" y="1357200"/>
            <a:ext cx="2950920" cy="375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Меж клюквы и мор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реди лесных бо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кочке, на нож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уда не глянь рас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н снизу - белова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выше - зел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ль нужно будет в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рви его ско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кустиках поля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дсушен в летний з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н партизанам 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Лечил в глуши лес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14:08:50Z</dcterms:created>
  <dc:creator>анна</dc:creator>
  <dc:description/>
  <dc:language>en-US</dc:language>
  <cp:lastModifiedBy>User</cp:lastModifiedBy>
  <dcterms:modified xsi:type="dcterms:W3CDTF">2018-01-27T20:23:20Z</dcterms:modified>
  <cp:revision>4</cp:revision>
  <dc:subject/>
  <dc:title>Слайд 1</dc:title>
</cp:coreProperties>
</file>